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B491C-CA7F-4D57-A8FC-A663A930F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5218A-616B-427B-AC24-D09ECF019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96980-F5CB-44E0-93BE-1415AF023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272CE-A911-4EE9-8F1E-D6634CA81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8327DA8-82BE-40DD-B51B-B85831E61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908674-29B9-4DFC-B660-4A2135BF3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C0D99C-7B2B-46E1-A6C2-2888BB965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4C8431-9F14-4734-8D0F-B138FD789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E2A649-C431-42E9-8747-B059AAB7C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8990C9-C091-40EF-84F1-6DB0D2BEA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9787EA-4796-4E6B-9F91-C4B878564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67396-7E8B-4A8A-9189-FFB36E6AA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897CCA-1833-434A-B439-F8B672001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5CEC87-5F5D-455B-8116-FF8AB2168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3B3BDE-02D9-4CA5-86D7-D593DC998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A19E73-35C1-47EA-8BF7-7B0BE9B20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136900-8320-4B9C-B1F3-871FEDCFC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8548-146B-4CA7-B51A-6666D758A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FF9D4-A6D4-4AE0-8805-F5EA1AD37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DB67-5ACC-4A96-AD34-5906F8FFE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6541A-A306-4E7A-AB4A-0819E9892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ABDF-EE4B-4739-82D9-3967BC802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3011D-0202-4C55-B545-48CEE7BCB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84CC3-EE61-4812-817A-C256D88E8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9B53-C926-45F6-A643-68136F856197}"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68C1-320B-4B06-81A5-143E73C618EF}"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e3e3ff"/>
                </a:solidFill>
                <a:latin typeface="Arial"/>
              </a:rPr>
              <a:t>Chapter 15</a:t>
            </a:r>
            <a:br>
              <a:rPr sz="5400"/>
            </a:br>
            <a:endParaRPr b="0" lang="en-US" sz="5400" spc="-1" strike="noStrike">
              <a:solidFill>
                <a:srgbClr val="e3e3ff"/>
              </a:solidFill>
              <a:latin typeface="Arial"/>
            </a:endParaRPr>
          </a:p>
        </p:txBody>
      </p:sp>
      <p:sp>
        <p:nvSpPr>
          <p:cNvPr id="123" name="PlaceHolder 2"/>
          <p:cNvSpPr>
            <a:spLocks noGrp="1"/>
          </p:cNvSpPr>
          <p:nvPr>
            <p:ph type="subTitle"/>
          </p:nvPr>
        </p:nvSpPr>
        <p:spPr>
          <a:xfrm>
            <a:off x="755640" y="2707920"/>
            <a:ext cx="7772400" cy="360036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Grading</a:t>
            </a:r>
            <a:endParaRPr b="0" lang="en-US" sz="4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sented by: Brian Snyder</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d</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ric Proct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Performance Standards</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ifferent reference points that may be used when grading includ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elf- referenced standar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ath-referenced standar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rm-referenced standar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riterion-referenced standar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7" name="PlaceHolder 2"/>
          <p:cNvSpPr>
            <a:spLocks noGrp="1"/>
          </p:cNvSpPr>
          <p:nvPr>
            <p:ph/>
          </p:nvPr>
        </p:nvSpPr>
        <p:spPr>
          <a:xfrm>
            <a:off x="457200" y="333000"/>
            <a:ext cx="8229600" cy="57625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Arial"/>
              </a:rPr>
              <a:t>Self-reference</a:t>
            </a:r>
            <a:r>
              <a:rPr b="0" lang="en-CA" sz="3200" spc="-1" strike="noStrike" u="sng">
                <a:solidFill>
                  <a:srgbClr val="ffffff"/>
                </a:solidFill>
                <a:uFillTx/>
                <a:latin typeface="Arial"/>
              </a:rPr>
              <a:t>:</a:t>
            </a:r>
            <a:r>
              <a:rPr b="0" lang="en-CA" sz="3200" spc="-1" strike="noStrike">
                <a:solidFill>
                  <a:srgbClr val="ffffff"/>
                </a:solidFill>
                <a:latin typeface="Arial"/>
              </a:rPr>
              <a:t> takes initial assessment data and measures how much growth has occurred by the second assessment. *preferred approach in special e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Arial"/>
              </a:rPr>
              <a:t>Path – Referenced:</a:t>
            </a:r>
            <a:r>
              <a:rPr b="0" lang="en-CA" sz="3200" spc="-1" strike="noStrike">
                <a:solidFill>
                  <a:srgbClr val="ffffff"/>
                </a:solidFill>
                <a:latin typeface="Arial"/>
              </a:rPr>
              <a:t> tracks students’ knowledge of key concepts and skills. This model is used often in math and language, where essential skills is a necessary for later success in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404280"/>
            <a:ext cx="8229600" cy="56912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Arial"/>
              </a:rPr>
              <a:t>Norm – referenced</a:t>
            </a:r>
            <a:r>
              <a:rPr b="1" lang="en-CA" sz="3200" spc="-1" strike="noStrike">
                <a:solidFill>
                  <a:srgbClr val="ffffff"/>
                </a:solidFill>
                <a:latin typeface="Arial"/>
              </a:rPr>
              <a:t>:</a:t>
            </a:r>
            <a:r>
              <a:rPr b="0" lang="en-CA" sz="3200" spc="-1" strike="noStrike">
                <a:solidFill>
                  <a:srgbClr val="ffffff"/>
                </a:solidFill>
                <a:latin typeface="Arial"/>
              </a:rPr>
              <a:t> one student’s performance is compared to a group of students of the same grade lev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Arial"/>
              </a:rPr>
              <a:t>Criterion-referenced</a:t>
            </a:r>
            <a:r>
              <a:rPr b="1" lang="en-CA" sz="3200" spc="-1" strike="noStrike">
                <a:solidFill>
                  <a:srgbClr val="ffffff"/>
                </a:solidFill>
                <a:latin typeface="Arial"/>
              </a:rPr>
              <a:t>: </a:t>
            </a:r>
            <a:r>
              <a:rPr b="0" lang="en-CA" sz="3200" spc="-1" strike="noStrike">
                <a:solidFill>
                  <a:srgbClr val="ffffff"/>
                </a:solidFill>
                <a:latin typeface="Arial"/>
              </a:rPr>
              <a:t>students’ performance measured against a predetermined set of performance indicators. i.e. driver’s road t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st used in classroom assess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51" name="Picture 4" descr="brian"/>
          <p:cNvPicPr/>
          <p:nvPr/>
        </p:nvPicPr>
        <p:blipFill>
          <a:blip r:embed="rId1"/>
          <a:stretch/>
        </p:blipFill>
        <p:spPr>
          <a:xfrm>
            <a:off x="179280" y="260280"/>
            <a:ext cx="8964720" cy="659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Ensuring that Assignments are Completed</a:t>
            </a:r>
            <a:endParaRPr b="0" lang="en-US" sz="40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mmunicate to students and their parents, both at the start of the year and each unit, your expectation that assigned work be completed.</a:t>
            </a:r>
            <a:endParaRPr b="0" lang="en-US" sz="2800" spc="-1" strike="noStrike">
              <a:solidFill>
                <a:srgbClr val="ffffff"/>
              </a:solidFill>
              <a:latin typeface="Arial"/>
            </a:endParaRPr>
          </a:p>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vide rubrics, checklists, and exemplars to clarify standards for each task.</a:t>
            </a:r>
            <a:endParaRPr b="0" lang="en-US" sz="2800" spc="-1" strike="noStrike">
              <a:solidFill>
                <a:srgbClr val="ffffff"/>
              </a:solidFill>
              <a:latin typeface="Arial"/>
            </a:endParaRPr>
          </a:p>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vide time in class to work on tasks and conference with students so they have feedback.</a:t>
            </a:r>
            <a:endParaRPr b="0" lang="en-US" sz="2800" spc="-1" strike="noStrike">
              <a:solidFill>
                <a:srgbClr val="ffffff"/>
              </a:solidFill>
              <a:latin typeface="Arial"/>
            </a:endParaRPr>
          </a:p>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vide frequent reminders to students and parents about when work is due.</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Making the Grade in Middle School by: Ruth Dyrness &amp; Albert Dyrness</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elf-esteem is a big concern in middle school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eachers should use a grading system that provides encouraging feedback without damaging the student’s willingness to t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Use a “criticism sandwich”- compliment – criticism – compliment.</a:t>
            </a:r>
            <a:endParaRPr b="0" lang="en-US" sz="3200" spc="-1" strike="noStrike">
              <a:solidFill>
                <a:srgbClr val="ffffff"/>
              </a:solidFill>
              <a:latin typeface="Arial"/>
            </a:endParaRPr>
          </a:p>
        </p:txBody>
      </p:sp>
      <p:pic>
        <p:nvPicPr>
          <p:cNvPr id="156" name="Picture 5" descr="ANd9GcRP3Cb78dP8uEw09irA4AF5PPoOaC3i3VaRMmHjOmz-JpdiYI59jIkviRY"/>
          <p:cNvPicPr/>
          <p:nvPr/>
        </p:nvPicPr>
        <p:blipFill>
          <a:blip r:embed="rId1"/>
          <a:stretch/>
        </p:blipFill>
        <p:spPr>
          <a:xfrm>
            <a:off x="6659640" y="5229360"/>
            <a:ext cx="1657440" cy="122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Making the Grade in Middle School</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any teachers view grading and behavioural management together as one and the same. (not goo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Getting a zero for a late assignment in an incorrect measure of the student’s knowledg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Limited participation cannot be viewed as a lack of understanding and cannot be used to negatively affect a student’s gra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Grading</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fined as taking all the rich data about students learning that have been gathered over an extended period of time and converting it to a letter grade, achievement level, or percentage (Cooper,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Grading Con’t…</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snapshot of learning that informs parents and guardians about progress and achievement at points in the school cyc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t is imperative to be clear about which measures have been graded. These measures include </a:t>
            </a:r>
            <a:r>
              <a:rPr b="1" lang="en-CA" sz="3200" spc="-1" strike="noStrike">
                <a:solidFill>
                  <a:srgbClr val="ffffff"/>
                </a:solidFill>
                <a:latin typeface="Arial"/>
              </a:rPr>
              <a:t>growth, progress</a:t>
            </a:r>
            <a:r>
              <a:rPr b="0" lang="en-CA" sz="3200" spc="-1" strike="noStrike">
                <a:solidFill>
                  <a:srgbClr val="ffffff"/>
                </a:solidFill>
                <a:latin typeface="Arial"/>
              </a:rPr>
              <a:t> and </a:t>
            </a:r>
            <a:r>
              <a:rPr b="1" lang="en-CA" sz="3200" spc="-1" strike="noStrike">
                <a:solidFill>
                  <a:srgbClr val="ffffff"/>
                </a:solidFill>
                <a:latin typeface="Arial"/>
              </a:rPr>
              <a:t>achieve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oper,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Growth</a:t>
            </a:r>
            <a:r>
              <a:rPr b="0" lang="en-CA"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fined as “the increase in learning that occurs from the beginning of an instructional period to a particular reporting event” (Cooper, 2007).</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asured by baseline assessment to most recent assessment. For example, measuring a students height over a ye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Growth con’t..</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lways measured forward from a starting poi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Less concerned with established standard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Growth emphasizes the improvement that has occurred, not how far short of a standard the student has falle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oper, 2007)</a:t>
            </a:r>
            <a:endParaRPr b="0" lang="en-US" sz="3200" spc="-1" strike="noStrike">
              <a:solidFill>
                <a:srgbClr val="ffffff"/>
              </a:solidFill>
              <a:latin typeface="Arial"/>
            </a:endParaRPr>
          </a:p>
        </p:txBody>
      </p:sp>
      <p:pic>
        <p:nvPicPr>
          <p:cNvPr id="132" name="Picture 4" descr="MC910216310[1]"/>
          <p:cNvPicPr/>
          <p:nvPr/>
        </p:nvPicPr>
        <p:blipFill>
          <a:blip r:embed="rId1"/>
          <a:stretch/>
        </p:blipFill>
        <p:spPr>
          <a:xfrm>
            <a:off x="1042920" y="5084640"/>
            <a:ext cx="3799080" cy="101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Progress</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asured backward from a desired endpoint – </a:t>
            </a:r>
            <a:r>
              <a:rPr b="1" lang="en-CA" sz="3200" spc="-1" strike="noStrike">
                <a:solidFill>
                  <a:srgbClr val="ffffff"/>
                </a:solidFill>
                <a:latin typeface="Arial"/>
              </a:rPr>
              <a:t>outcomes</a:t>
            </a:r>
            <a:r>
              <a:rPr b="0" lang="en-C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xample: How far you are from a destination? 20kms from Trent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y not be at destination yet, but on your way there.</a:t>
            </a:r>
            <a:endParaRPr b="0" lang="en-US" sz="3200" spc="-1" strike="noStrike">
              <a:solidFill>
                <a:srgbClr val="ffffff"/>
              </a:solidFill>
              <a:latin typeface="Arial"/>
            </a:endParaRPr>
          </a:p>
        </p:txBody>
      </p:sp>
      <p:pic>
        <p:nvPicPr>
          <p:cNvPr id="135" name="Picture 4" descr="MC910216309[1]"/>
          <p:cNvPicPr/>
          <p:nvPr/>
        </p:nvPicPr>
        <p:blipFill>
          <a:blip r:embed="rId1"/>
          <a:stretch/>
        </p:blipFill>
        <p:spPr>
          <a:xfrm>
            <a:off x="2700360" y="4797360"/>
            <a:ext cx="3151080" cy="132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chievement</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measure of what a student demonstrates at given point in ti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indicate progress from one level to anoth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st report cards indicate only measures of achieve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arents of students with special needs don’t like this!</a:t>
            </a:r>
            <a:endParaRPr b="0" lang="en-US" sz="3200" spc="-1" strike="noStrike">
              <a:solidFill>
                <a:srgbClr val="ffffff"/>
              </a:solidFill>
              <a:latin typeface="Arial"/>
            </a:endParaRPr>
          </a:p>
        </p:txBody>
      </p:sp>
      <p:pic>
        <p:nvPicPr>
          <p:cNvPr id="138" name="Picture 5" descr="MP900401121[1]"/>
          <p:cNvPicPr/>
          <p:nvPr/>
        </p:nvPicPr>
        <p:blipFill>
          <a:blip r:embed="rId1"/>
          <a:stretch/>
        </p:blipFill>
        <p:spPr>
          <a:xfrm>
            <a:off x="6948360" y="5445000"/>
            <a:ext cx="1287720" cy="10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Issues with these Reporting Mechanisms</a:t>
            </a:r>
            <a:endParaRPr b="0" lang="en-US" sz="40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 problem is the complex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arents want clear and easy to understand report car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f teachers were to report on growth and achievement the length of report cards would be very lo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Picture 4" descr="MC900251265[1]"/>
          <p:cNvPicPr/>
          <p:nvPr/>
        </p:nvPicPr>
        <p:blipFill>
          <a:blip r:embed="rId1"/>
          <a:stretch/>
        </p:blipFill>
        <p:spPr>
          <a:xfrm>
            <a:off x="5724360" y="4365720"/>
            <a:ext cx="2903760" cy="19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3e3ff"/>
                </a:solidFill>
                <a:latin typeface="Arial"/>
              </a:rPr>
              <a:t>Why Performance Standards Are Essential to Grading?</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i="1" lang="en-CA" sz="3200" spc="-1" strike="noStrike">
                <a:solidFill>
                  <a:srgbClr val="ffffff"/>
                </a:solidFill>
                <a:latin typeface="Arial"/>
              </a:rPr>
              <a:t>we need developmental standards but we also need absolute standards to educate students about real excellence just as the work of young athletes and musicians is ultimately judged against standards… set by professionals.</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iggins, 199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15:43:54Z</dcterms:created>
  <dc:creator>Brian James Snyder</dc:creator>
  <dc:description/>
  <dc:language>en-US</dc:language>
  <cp:lastModifiedBy>Mike</cp:lastModifiedBy>
  <dcterms:modified xsi:type="dcterms:W3CDTF">2012-06-29T00:48:25Z</dcterms:modified>
  <cp:revision>14</cp:revision>
  <dc:subject/>
  <dc:title>Chapter 15</dc:title>
</cp:coreProperties>
</file>